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ct" ContentType="image/x-pict"/>
  <Override PartName="/ppt/media/image1.png" ContentType="image/png"/>
  <Override PartName="/ppt/media/image24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6.jpeg" ContentType="image/jpeg"/>
  <Override PartName="/ppt/media/image10.png" ContentType="image/png"/>
  <Override PartName="/ppt/media/image5.png" ContentType="image/png"/>
  <Override PartName="/ppt/media/image7.png" ContentType="image/png"/>
  <Override PartName="/ppt/media/image18.pct" ContentType="image/x-pict"/>
  <Override PartName="/ppt/media/image4.pct" ContentType="image/x-pict"/>
  <Override PartName="/ppt/media/image11.png" ContentType="image/png"/>
  <Override PartName="/ppt/media/image3.pct" ContentType="image/x-pict"/>
  <Override PartName="/ppt/media/image27.png" ContentType="image/png"/>
  <Override PartName="/ppt/media/image15.png" ContentType="image/png"/>
  <Override PartName="/ppt/media/image26.png" ContentType="image/png"/>
  <Override PartName="/ppt/media/image14.png" ContentType="image/png"/>
  <Override PartName="/ppt/media/image25.png" ContentType="image/png"/>
  <Override PartName="/ppt/media/image23.png" ContentType="image/png"/>
  <Override PartName="/ppt/media/image22.png" ContentType="image/png"/>
  <Override PartName="/ppt/media/image20.png" ContentType="image/png"/>
  <Override PartName="/ppt/media/image2.jpeg" ContentType="image/jpeg"/>
  <Override PartName="/ppt/media/image21.png" ContentType="image/png"/>
  <Override PartName="/ppt/media/image19.png" ContentType="image/png"/>
  <Override PartName="/ppt/media/image17.png" ContentType="image/png"/>
  <Override PartName="/ppt/media/image1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034BE-3FB6-468E-9D48-AD1E4405FD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cromolecular, protein ontology not yet in 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 preceded OB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B-cell different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still have redundancy, but it can be detected automatically, changes can be propag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ompose and then augment file with cross-product inf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fo in CL and GO are integ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0E310-3866-45E7-AC3F-2D3BE9C02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5C953-5E0B-4763-AA07-429F20433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DE9A3-0479-480F-A906-95258C927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1796C-E3E0-422D-B3B1-8E730E6C8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59672-577C-441C-ADB1-775DBDCAB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06465-DB73-4D13-AAC1-DED620F25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217E2-1196-4A61-91A5-6FE1F4EF8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3A06F-B6B5-474C-A4E5-848BF473F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71186-9AC6-4914-96DB-E48D472FE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07DB3-A195-44C1-ACC7-089A58E79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928FF-1C3D-4FE9-9C68-738796A4C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85B8E-A160-4855-A553-DF309C5D6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E1783-ADED-4C98-BB50-35DCAB42A1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image" Target="../media/image4.pct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ct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png"/><Relationship Id="rId14" Type="http://schemas.openxmlformats.org/officeDocument/2006/relationships/image" Target="../media/image16.jpeg"/><Relationship Id="rId15" Type="http://schemas.openxmlformats.org/officeDocument/2006/relationships/image" Target="../media/image17.png"/><Relationship Id="rId16" Type="http://schemas.openxmlformats.org/officeDocument/2006/relationships/image" Target="../media/image18.pct"/><Relationship Id="rId1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9840" y="893880"/>
            <a:ext cx="8997840" cy="512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600200" y="19080"/>
            <a:ext cx="5614920" cy="683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ystein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biosynthesis (ChEB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yoblas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fusion (Cell Type Ontolog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ydrogen io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transporter activity (ChEB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noRN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catabolism (Sequence Ontolog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ing dis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pattern formation 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rosophil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atom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pidermal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differentiation (Cell Type Ontolog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gulation of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lowe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development 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lan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anatom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terleukin-18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receptor complex (not yet in OB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-cell</a:t>
            </a:r>
            <a:r>
              <a:rPr b="1" lang="en-US" sz="2400" spc="-1" strike="noStrike">
                <a:solidFill>
                  <a:srgbClr val="00808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fferentiation (Cell Type Ontolog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801360" y="412920"/>
            <a:ext cx="695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kia"/>
              </a:rPr>
              <a:t>Implicit ontologies </a:t>
            </a:r>
            <a:r>
              <a:rPr b="1" i="1" lang="en-US" sz="3200" spc="-1" strike="noStrike">
                <a:solidFill>
                  <a:srgbClr val="000000"/>
                </a:solidFill>
                <a:latin typeface="Skia"/>
              </a:rPr>
              <a:t>within</a:t>
            </a:r>
            <a:r>
              <a:rPr b="1" lang="en-US" sz="3200" spc="-1" strike="noStrike">
                <a:solidFill>
                  <a:srgbClr val="000000"/>
                </a:solidFill>
                <a:latin typeface="Skia"/>
              </a:rPr>
              <a:t> the G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984240" y="-31680"/>
            <a:ext cx="7175520" cy="69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590920" y="914400"/>
            <a:ext cx="4078080" cy="458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523880" y="5992920"/>
            <a:ext cx="2895840" cy="8254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B-cell differenti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066680" y="3325680"/>
            <a:ext cx="2057400" cy="119124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lymphocy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ifferenti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514920" y="3737160"/>
            <a:ext cx="1845000" cy="459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lymphocy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936840" y="4956480"/>
            <a:ext cx="953280" cy="459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B-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8" name=""/>
          <p:cNvCxnSpPr>
            <a:stCxn id="107" idx="0"/>
            <a:endCxn id="106" idx="2"/>
          </p:cNvCxnSpPr>
          <p:nvPr/>
        </p:nvCxnSpPr>
        <p:spPr>
          <a:xfrm flipV="1">
            <a:off x="7413120" y="4200120"/>
            <a:ext cx="24840" cy="753120"/>
          </a:xfrm>
          <a:prstGeom prst="straightConnector1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104" idx="0"/>
            <a:endCxn id="105" idx="2"/>
          </p:cNvCxnSpPr>
          <p:nvPr/>
        </p:nvCxnSpPr>
        <p:spPr>
          <a:xfrm flipH="1" flipV="1">
            <a:off x="2095200" y="4336560"/>
            <a:ext cx="876960" cy="1836000"/>
          </a:xfrm>
          <a:prstGeom prst="straightConnector1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110" name=""/>
          <p:cNvSpPr/>
          <p:nvPr/>
        </p:nvSpPr>
        <p:spPr>
          <a:xfrm>
            <a:off x="1980000" y="1760400"/>
            <a:ext cx="72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kia"/>
              </a:rPr>
              <a:t>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152120" y="17431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kia"/>
              </a:rPr>
              <a:t>C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/>
          <p:nvPr/>
        </p:nvCxnSpPr>
        <p:spPr>
          <a:xfrm flipV="1">
            <a:off x="304560" y="5485680"/>
            <a:ext cx="1080" cy="1104120"/>
          </a:xfrm>
          <a:prstGeom prst="straightConnector1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07080" y="5867280"/>
            <a:ext cx="73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s_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80880" y="2472120"/>
            <a:ext cx="4267440" cy="45972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ell differenti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5" name=""/>
          <p:cNvCxnSpPr>
            <a:stCxn id="105" idx="0"/>
            <a:endCxn id="114" idx="2"/>
          </p:cNvCxnSpPr>
          <p:nvPr/>
        </p:nvCxnSpPr>
        <p:spPr>
          <a:xfrm flipV="1">
            <a:off x="2095560" y="2934720"/>
            <a:ext cx="419760" cy="570600"/>
          </a:xfrm>
          <a:prstGeom prst="straightConnector1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116" name=""/>
          <p:cNvSpPr/>
          <p:nvPr/>
        </p:nvSpPr>
        <p:spPr>
          <a:xfrm>
            <a:off x="6885000" y="2289240"/>
            <a:ext cx="1003680" cy="8254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bl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7" name=""/>
          <p:cNvCxnSpPr>
            <a:stCxn id="106" idx="0"/>
            <a:endCxn id="116" idx="2"/>
          </p:cNvCxnSpPr>
          <p:nvPr/>
        </p:nvCxnSpPr>
        <p:spPr>
          <a:xfrm flipH="1" flipV="1">
            <a:off x="7386120" y="3117240"/>
            <a:ext cx="51840" cy="616680"/>
          </a:xfrm>
          <a:prstGeom prst="straightConnector1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118" name=""/>
          <p:cNvSpPr/>
          <p:nvPr/>
        </p:nvSpPr>
        <p:spPr>
          <a:xfrm>
            <a:off x="3657600" y="4270320"/>
            <a:ext cx="1676520" cy="8254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B-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ctiv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9" name=""/>
          <p:cNvCxnSpPr>
            <a:stCxn id="104" idx="0"/>
            <a:endCxn id="118" idx="2"/>
          </p:cNvCxnSpPr>
          <p:nvPr/>
        </p:nvCxnSpPr>
        <p:spPr>
          <a:xfrm flipV="1">
            <a:off x="2971440" y="5098680"/>
            <a:ext cx="1524600" cy="1073520"/>
          </a:xfrm>
          <a:prstGeom prst="straightConnector1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</p:cxnSp>
      <p:cxnSp>
        <p:nvCxnSpPr>
          <p:cNvPr id="120" name=""/>
          <p:cNvCxnSpPr/>
          <p:nvPr/>
        </p:nvCxnSpPr>
        <p:spPr>
          <a:xfrm>
            <a:off x="3123720" y="3921120"/>
            <a:ext cx="3429720" cy="46800"/>
          </a:xfrm>
          <a:prstGeom prst="straightConnector1">
            <a:avLst/>
          </a:prstGeom>
          <a:ln w="38160">
            <a:solidFill>
              <a:srgbClr val="ff0000"/>
            </a:solidFill>
            <a:prstDash val="sysDot"/>
            <a:miter/>
            <a:tailEnd len="med" type="triangle" w="med"/>
          </a:ln>
        </p:spPr>
      </p:cxnSp>
      <p:cxnSp>
        <p:nvCxnSpPr>
          <p:cNvPr id="121" name=""/>
          <p:cNvCxnSpPr>
            <a:stCxn id="118" idx="3"/>
            <a:endCxn id="107" idx="1"/>
          </p:cNvCxnSpPr>
          <p:nvPr/>
        </p:nvCxnSpPr>
        <p:spPr>
          <a:xfrm>
            <a:off x="5333760" y="4683240"/>
            <a:ext cx="1641960" cy="504000"/>
          </a:xfrm>
          <a:prstGeom prst="straightConnector1">
            <a:avLst/>
          </a:prstGeom>
          <a:ln w="38160">
            <a:solidFill>
              <a:srgbClr val="ff0000"/>
            </a:solidFill>
            <a:prstDash val="sysDot"/>
            <a:miter/>
            <a:tailEnd len="med" type="triangle" w="med"/>
          </a:ln>
        </p:spPr>
      </p:cxnSp>
      <p:cxnSp>
        <p:nvCxnSpPr>
          <p:cNvPr id="122" name=""/>
          <p:cNvCxnSpPr>
            <a:stCxn id="104" idx="3"/>
            <a:endCxn id="107" idx="2"/>
          </p:cNvCxnSpPr>
          <p:nvPr/>
        </p:nvCxnSpPr>
        <p:spPr>
          <a:xfrm flipV="1">
            <a:off x="4419720" y="5419440"/>
            <a:ext cx="2994480" cy="986400"/>
          </a:xfrm>
          <a:prstGeom prst="straightConnector1">
            <a:avLst/>
          </a:prstGeom>
          <a:ln w="38160">
            <a:solidFill>
              <a:srgbClr val="ff0000"/>
            </a:solidFill>
            <a:prstDash val="sysDot"/>
            <a:miter/>
            <a:tailEnd len="med" type="triangle" w="med"/>
          </a:ln>
        </p:spPr>
      </p:cxnSp>
      <p:sp>
        <p:nvSpPr>
          <p:cNvPr id="123" name=""/>
          <p:cNvSpPr/>
          <p:nvPr/>
        </p:nvSpPr>
        <p:spPr>
          <a:xfrm>
            <a:off x="2465280" y="685800"/>
            <a:ext cx="420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Skia"/>
              </a:rPr>
              <a:t>Integrating ontolog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447920" y="990720"/>
            <a:ext cx="7086600" cy="22096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Gill Sans"/>
              </a:rPr>
              <a:t>[ Term 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d: GO:003018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ame: B-cell differenti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s_a: GO:0042113   ! B-cell activ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s_a: GO:0030098   ! lymphocyte differenti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tersection_of: is_a GO:0030154    ! cell differenti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tersection_of: has_participant CL:0000236 ! B-ce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447920" y="3657600"/>
            <a:ext cx="7086600" cy="22096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Gill Sans"/>
              </a:rPr>
              <a:t>[ Term 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d: CL:000023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ame: B-ce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s_a: CL:0000542                      ! lymphocy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s_from: CL:0000231    ! B-lymphoblas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-109440" y="1344600"/>
            <a:ext cx="15872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Augmen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-37800" y="3859200"/>
            <a:ext cx="11012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205560" y="1295280"/>
            <a:ext cx="8856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Skia"/>
              </a:rPr>
              <a:t>                    </a:t>
            </a:r>
            <a:r>
              <a:rPr b="1" lang="en-GB" sz="3200" spc="-1" strike="noStrike">
                <a:solidFill>
                  <a:srgbClr val="000000"/>
                </a:solidFill>
                <a:latin typeface="Skia"/>
              </a:rPr>
              <a:t>The next challenge</a:t>
            </a:r>
            <a:r>
              <a:rPr b="1" lang="en-GB" sz="3200" spc="-1" strike="noStrike">
                <a:solidFill>
                  <a:srgbClr val="000000"/>
                </a:solidFill>
                <a:latin typeface="Ski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Skia"/>
              </a:rPr>
              <a:t>A syntax and semantics for the descrip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Skia"/>
              </a:rPr>
              <a:t>of phenotyp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3958560" y="4770360"/>
            <a:ext cx="120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Skia"/>
              </a:rPr>
              <a:t>val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964680" y="1219320"/>
            <a:ext cx="126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Skia"/>
              </a:rPr>
              <a:t>ent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390680" y="272880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856320" y="22543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describ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697120" y="289548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633120" y="2971800"/>
            <a:ext cx="185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Skia"/>
              </a:rPr>
              <a:t>attrib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5" name=""/>
          <p:cNvCxnSpPr>
            <a:stCxn id="136" idx="2"/>
            <a:endCxn id="129" idx="0"/>
          </p:cNvCxnSpPr>
          <p:nvPr/>
        </p:nvCxnSpPr>
        <p:spPr>
          <a:xfrm flipH="1">
            <a:off x="4560120" y="4267080"/>
            <a:ext cx="2520" cy="5040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7" name=""/>
          <p:cNvCxnSpPr>
            <a:stCxn id="132" idx="2"/>
            <a:endCxn id="134" idx="0"/>
          </p:cNvCxnSpPr>
          <p:nvPr/>
        </p:nvCxnSpPr>
        <p:spPr>
          <a:xfrm flipH="1">
            <a:off x="4558680" y="2620440"/>
            <a:ext cx="5400" cy="3513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36" name=""/>
          <p:cNvSpPr/>
          <p:nvPr/>
        </p:nvSpPr>
        <p:spPr>
          <a:xfrm>
            <a:off x="4265640" y="390060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h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8" name=""/>
          <p:cNvCxnSpPr>
            <a:stCxn id="134" idx="2"/>
            <a:endCxn id="136" idx="0"/>
          </p:cNvCxnSpPr>
          <p:nvPr/>
        </p:nvCxnSpPr>
        <p:spPr>
          <a:xfrm>
            <a:off x="4559040" y="3551400"/>
            <a:ext cx="3960" cy="3499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39" name=""/>
          <p:cNvSpPr/>
          <p:nvPr/>
        </p:nvSpPr>
        <p:spPr>
          <a:xfrm>
            <a:off x="4479840" y="164448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0" name=""/>
          <p:cNvCxnSpPr/>
          <p:nvPr/>
        </p:nvCxnSpPr>
        <p:spPr>
          <a:xfrm>
            <a:off x="4495320" y="1676520"/>
            <a:ext cx="1080" cy="3513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41" name=""/>
          <p:cNvCxnSpPr/>
          <p:nvPr/>
        </p:nvCxnSpPr>
        <p:spPr>
          <a:xfrm>
            <a:off x="4495320" y="1980720"/>
            <a:ext cx="1080" cy="3513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584280" y="495360"/>
            <a:ext cx="797544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82680" y="1981080"/>
            <a:ext cx="8349480" cy="23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llele: cora[5]; Fbal:008937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ference: Fbrf:0105869; PUBMED:984358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ntity: dorsal closure; Attribute: completion; Value: incomple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ntity: cuticle; Attribute: relative_thickness; Value: th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ntity: cuticle; Attribute: structure; Value: necrot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ntity: trachea; Attribute: inflation; Value: abnorm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ntity: septate junction; Attribute: structure; Value: abnorm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ntity: salivary gland; Attribute: permeability; Value: imperme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ntity: epithelium; Attribute: permeability; Value: imperme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724120" y="914400"/>
            <a:ext cx="3828960" cy="482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279440" y="1355760"/>
            <a:ext cx="9617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160" y="1295280"/>
            <a:ext cx="9690480" cy="43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gene: SHH; OMIM:60072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yndrome: holoprosencephaly 3; OMIM:14294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isease: Holoprosencephaly ; DOID:000025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ference: OMIM:14294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ference: www.ninds.nih.gov/disorders/holoprosencephaly/holoprosencephaly.ht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ntity: prosencephalon development ; Attribute: process; Value: arres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ntity: brain ; Attribute: relative_size ; Value: sma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ntity: brain ventricle ; Attribute: number ; Value: sing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ntity: skull ; Attribute: morphology ; Value: abnorm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ntity: midface ; Attribute: structure ; Value: hypoplast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ntity: eye ; Attribute: morphology ; Value: abnorm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ntity: eye ; Attribute: number ; Value: sing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ntity: eye ; Attribute: placement ; Value: mislocaliz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ntity: nose ; Attribute: morphology ; Value: abnorm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ntity: nostril ; Attribute: number ; Value: sing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ntity: upper lip ; Attribute: morphology ; Value: clef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ntity: kidney ; Attribute: relative_size ; Value: hypertrophi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758520" y="2133720"/>
            <a:ext cx="72338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velopment of phenotype and associated ontolog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rofit FlyBase phenotype curation with P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ation of OMIM diseases with P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hasis on genes with clear fly/human homolog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-2438280" y="457200"/>
            <a:ext cx="13716000" cy="587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1377000" y="2898720"/>
            <a:ext cx="6389640" cy="1062000"/>
            <a:chOff x="1377000" y="2898720"/>
            <a:chExt cx="6389640" cy="1062000"/>
          </a:xfrm>
        </p:grpSpPr>
        <p:sp>
          <p:nvSpPr>
            <p:cNvPr id="55" name=""/>
            <p:cNvSpPr/>
            <p:nvPr/>
          </p:nvSpPr>
          <p:spPr>
            <a:xfrm>
              <a:off x="2586240" y="3501000"/>
              <a:ext cx="3971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9999"/>
                  </a:solidFill>
                  <a:latin typeface="Times New Roman"/>
                </a:rPr>
                <a:t>http://www.geneontology.or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377000" y="2898720"/>
              <a:ext cx="6389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9999"/>
                  </a:solidFill>
                  <a:latin typeface="Apple Chancery"/>
                </a:rPr>
                <a:t>Gene Ontology Consortium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427120" y="689040"/>
            <a:ext cx="1581480" cy="539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5695920" y="635040"/>
            <a:ext cx="1325520" cy="7873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600360" y="1828800"/>
            <a:ext cx="1941480" cy="352440"/>
          </a:xfrm>
          <a:prstGeom prst="rect">
            <a:avLst/>
          </a:prstGeom>
          <a:ln w="0">
            <a:noFill/>
          </a:ln>
        </p:spPr>
      </p:pic>
      <p:grpSp>
        <p:nvGrpSpPr>
          <p:cNvPr id="60" name=""/>
          <p:cNvGrpSpPr/>
          <p:nvPr/>
        </p:nvGrpSpPr>
        <p:grpSpPr>
          <a:xfrm>
            <a:off x="6721560" y="2008080"/>
            <a:ext cx="1965240" cy="1168560"/>
            <a:chOff x="6721560" y="2008080"/>
            <a:chExt cx="1965240" cy="1168560"/>
          </a:xfrm>
        </p:grpSpPr>
        <p:pic>
          <p:nvPicPr>
            <p:cNvPr id="61" name="" descr=""/>
            <p:cNvPicPr/>
            <p:nvPr/>
          </p:nvPicPr>
          <p:blipFill>
            <a:blip r:embed="rId4"/>
            <a:stretch/>
          </p:blipFill>
          <p:spPr>
            <a:xfrm>
              <a:off x="6721560" y="2008080"/>
              <a:ext cx="1965240" cy="628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" descr=""/>
            <p:cNvPicPr/>
            <p:nvPr/>
          </p:nvPicPr>
          <p:blipFill>
            <a:blip r:embed="rId5"/>
            <a:stretch/>
          </p:blipFill>
          <p:spPr>
            <a:xfrm>
              <a:off x="7427880" y="2465280"/>
              <a:ext cx="1258920" cy="7113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3" name="" descr=""/>
          <p:cNvPicPr/>
          <p:nvPr/>
        </p:nvPicPr>
        <p:blipFill>
          <a:blip r:embed="rId6"/>
          <a:stretch/>
        </p:blipFill>
        <p:spPr>
          <a:xfrm>
            <a:off x="1179360" y="6140520"/>
            <a:ext cx="1344600" cy="3315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7"/>
          <a:stretch/>
        </p:blipFill>
        <p:spPr>
          <a:xfrm>
            <a:off x="3703680" y="5962680"/>
            <a:ext cx="1299960" cy="5284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8"/>
          <a:stretch/>
        </p:blipFill>
        <p:spPr>
          <a:xfrm>
            <a:off x="6184800" y="5878440"/>
            <a:ext cx="1779840" cy="422280"/>
          </a:xfrm>
          <a:prstGeom prst="rect">
            <a:avLst/>
          </a:prstGeom>
          <a:ln w="0">
            <a:noFill/>
          </a:ln>
        </p:spPr>
      </p:pic>
      <p:grpSp>
        <p:nvGrpSpPr>
          <p:cNvPr id="66" name=""/>
          <p:cNvGrpSpPr/>
          <p:nvPr/>
        </p:nvGrpSpPr>
        <p:grpSpPr>
          <a:xfrm>
            <a:off x="380880" y="1914480"/>
            <a:ext cx="2209680" cy="990360"/>
            <a:chOff x="380880" y="1914480"/>
            <a:chExt cx="2209680" cy="990360"/>
          </a:xfrm>
        </p:grpSpPr>
        <p:sp>
          <p:nvSpPr>
            <p:cNvPr id="67" name=""/>
            <p:cNvSpPr/>
            <p:nvPr/>
          </p:nvSpPr>
          <p:spPr>
            <a:xfrm>
              <a:off x="380880" y="1914480"/>
              <a:ext cx="2209680" cy="990360"/>
            </a:xfrm>
            <a:prstGeom prst="rect">
              <a:avLst/>
            </a:prstGeom>
            <a:solidFill>
              <a:srgbClr val="f5f5f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8" name="" descr=""/>
            <p:cNvPicPr/>
            <p:nvPr/>
          </p:nvPicPr>
          <p:blipFill>
            <a:blip r:embed="rId9"/>
            <a:stretch/>
          </p:blipFill>
          <p:spPr>
            <a:xfrm>
              <a:off x="456840" y="2143080"/>
              <a:ext cx="1938600" cy="512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9" name="" descr=""/>
          <p:cNvPicPr/>
          <p:nvPr/>
        </p:nvPicPr>
        <p:blipFill>
          <a:blip r:embed="rId10"/>
          <a:stretch/>
        </p:blipFill>
        <p:spPr>
          <a:xfrm>
            <a:off x="4422600" y="369720"/>
            <a:ext cx="858960" cy="6289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1"/>
          <a:stretch/>
        </p:blipFill>
        <p:spPr>
          <a:xfrm>
            <a:off x="7435800" y="557280"/>
            <a:ext cx="1295280" cy="893520"/>
          </a:xfrm>
          <a:prstGeom prst="rect">
            <a:avLst/>
          </a:prstGeom>
          <a:ln w="0">
            <a:noFill/>
          </a:ln>
        </p:spPr>
      </p:pic>
      <p:grpSp>
        <p:nvGrpSpPr>
          <p:cNvPr id="71" name=""/>
          <p:cNvGrpSpPr/>
          <p:nvPr/>
        </p:nvGrpSpPr>
        <p:grpSpPr>
          <a:xfrm>
            <a:off x="412920" y="385920"/>
            <a:ext cx="1600200" cy="1143000"/>
            <a:chOff x="412920" y="385920"/>
            <a:chExt cx="1600200" cy="1143000"/>
          </a:xfrm>
        </p:grpSpPr>
        <p:sp>
          <p:nvSpPr>
            <p:cNvPr id="72" name=""/>
            <p:cNvSpPr/>
            <p:nvPr/>
          </p:nvSpPr>
          <p:spPr>
            <a:xfrm>
              <a:off x="412920" y="385920"/>
              <a:ext cx="1600200" cy="11430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3" name=""/>
            <p:cNvGrpSpPr/>
            <p:nvPr/>
          </p:nvGrpSpPr>
          <p:grpSpPr>
            <a:xfrm>
              <a:off x="417600" y="466920"/>
              <a:ext cx="1590480" cy="980640"/>
              <a:chOff x="417600" y="466920"/>
              <a:chExt cx="1590480" cy="980640"/>
            </a:xfrm>
          </p:grpSpPr>
          <p:pic>
            <p:nvPicPr>
              <p:cNvPr id="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765000" y="1000080"/>
                <a:ext cx="895320" cy="447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5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417600" y="466920"/>
                <a:ext cx="1590480" cy="4917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76" name=""/>
          <p:cNvGrpSpPr/>
          <p:nvPr/>
        </p:nvGrpSpPr>
        <p:grpSpPr>
          <a:xfrm>
            <a:off x="1878120" y="4419720"/>
            <a:ext cx="5230440" cy="1450080"/>
            <a:chOff x="1878120" y="4419720"/>
            <a:chExt cx="5230440" cy="1450080"/>
          </a:xfrm>
        </p:grpSpPr>
        <p:pic>
          <p:nvPicPr>
            <p:cNvPr id="77" name="" descr=""/>
            <p:cNvPicPr/>
            <p:nvPr/>
          </p:nvPicPr>
          <p:blipFill>
            <a:blip r:embed="rId14"/>
            <a:stretch/>
          </p:blipFill>
          <p:spPr>
            <a:xfrm>
              <a:off x="1878120" y="4419720"/>
              <a:ext cx="4953240" cy="558720"/>
            </a:xfrm>
            <a:prstGeom prst="rect">
              <a:avLst/>
            </a:prstGeom>
            <a:ln w="9360">
              <a:solidFill>
                <a:srgbClr val="00006b"/>
              </a:solidFill>
              <a:miter/>
            </a:ln>
          </p:spPr>
        </p:pic>
        <p:sp>
          <p:nvSpPr>
            <p:cNvPr id="78" name=""/>
            <p:cNvSpPr/>
            <p:nvPr/>
          </p:nvSpPr>
          <p:spPr>
            <a:xfrm>
              <a:off x="1878120" y="4952880"/>
              <a:ext cx="2286000" cy="916920"/>
            </a:xfrm>
            <a:prstGeom prst="rect">
              <a:avLst/>
            </a:prstGeom>
            <a:solidFill>
              <a:srgbClr val="0000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3f1d9"/>
                  </a:solidFill>
                  <a:latin typeface="Gill Sans"/>
                </a:rPr>
                <a:t>The Pathogen Grou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783960" y="4952880"/>
              <a:ext cx="3324600" cy="642600"/>
            </a:xfrm>
            <a:prstGeom prst="rect">
              <a:avLst/>
            </a:prstGeom>
            <a:solidFill>
              <a:srgbClr val="0000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3f1d9"/>
                  </a:solidFill>
                  <a:latin typeface="Gill Sans Light"/>
                </a:rPr>
                <a:t>Schizosaccharomyces pomb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3f1d9"/>
                  </a:solidFill>
                  <a:latin typeface="Gill Sans Light"/>
                </a:rPr>
                <a:t>Genome Sequencing Proj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7234200" y="3733920"/>
            <a:ext cx="1523880" cy="1587600"/>
            <a:chOff x="7234200" y="3733920"/>
            <a:chExt cx="1523880" cy="1587600"/>
          </a:xfrm>
        </p:grpSpPr>
        <p:sp>
          <p:nvSpPr>
            <p:cNvPr id="81" name=""/>
            <p:cNvSpPr/>
            <p:nvPr/>
          </p:nvSpPr>
          <p:spPr>
            <a:xfrm>
              <a:off x="7234200" y="4953240"/>
              <a:ext cx="1523880" cy="368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Lucida Calligraphy"/>
                </a:rPr>
                <a:t>DictyBa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2" name="" descr=""/>
            <p:cNvPicPr/>
            <p:nvPr/>
          </p:nvPicPr>
          <p:blipFill>
            <a:blip r:embed="rId15"/>
            <a:stretch/>
          </p:blipFill>
          <p:spPr>
            <a:xfrm>
              <a:off x="7234200" y="3733920"/>
              <a:ext cx="1523880" cy="1281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3" name="" descr=""/>
          <p:cNvPicPr/>
          <p:nvPr/>
        </p:nvPicPr>
        <p:blipFill>
          <a:blip r:embed="rId16"/>
          <a:stretch/>
        </p:blipFill>
        <p:spPr>
          <a:xfrm>
            <a:off x="385920" y="4738680"/>
            <a:ext cx="1104840" cy="101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-260280" y="-101520"/>
            <a:ext cx="9664560" cy="706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990720" y="1219320"/>
            <a:ext cx="6939000" cy="42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Skia"/>
              </a:rPr>
              <a:t>       </a:t>
            </a:r>
            <a:r>
              <a:rPr b="1" lang="en-GB" sz="3200" spc="-1" strike="noStrike">
                <a:solidFill>
                  <a:srgbClr val="000000"/>
                </a:solidFill>
                <a:latin typeface="Skia"/>
              </a:rPr>
              <a:t>Extending to the GO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Skia"/>
              </a:rPr>
              <a:t>                        </a:t>
            </a:r>
            <a:r>
              <a:rPr b="1" lang="en-GB" sz="3200" spc="-1" strike="noStrike">
                <a:solidFill>
                  <a:srgbClr val="000000"/>
                </a:solidFill>
                <a:latin typeface="Skia"/>
              </a:rPr>
              <a:t>OB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Ski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Skia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Skia"/>
              </a:rPr>
              <a:t>open biology ontolog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Ski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Skia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Skia"/>
              </a:rPr>
              <a:t>	</a:t>
            </a:r>
            <a:r>
              <a:rPr b="1" i="1" lang="en-GB" sz="3200" spc="-1" strike="noStrike">
                <a:solidFill>
                  <a:srgbClr val="000000"/>
                </a:solidFill>
                <a:latin typeface="Skia"/>
              </a:rPr>
              <a:t>http://obo.sf.net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Skia"/>
              </a:rPr>
              <a:t>                                 </a:t>
            </a:r>
            <a:r>
              <a:rPr b="1" lang="en-GB" sz="1800" spc="-1" strike="noStrike">
                <a:solidFill>
                  <a:srgbClr val="000000"/>
                </a:solidFill>
                <a:latin typeface="Skia"/>
              </a:rPr>
              <a:t>aka - extended go - (eg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b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304920" y="2362320"/>
            <a:ext cx="8450280" cy="305748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3126600" y="990720"/>
            <a:ext cx="261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obo.sf.n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143000" y="0"/>
            <a:ext cx="6686640" cy="665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447920" y="838080"/>
            <a:ext cx="656892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Skia"/>
              </a:rPr>
              <a:t>           </a:t>
            </a:r>
            <a:r>
              <a:rPr b="1" lang="en-GB" sz="3200" spc="-1" strike="noStrike">
                <a:solidFill>
                  <a:srgbClr val="000000"/>
                </a:solidFill>
                <a:latin typeface="Skia"/>
              </a:rPr>
              <a:t>Anatomy Ontolog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Skia"/>
              </a:rPr>
              <a:t>For the representation of phenotypic and expression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Skia"/>
              </a:rPr>
              <a:t>Now available for: </a:t>
            </a:r>
            <a:r>
              <a:rPr b="1" i="1" lang="en-GB" sz="3200" spc="-1" strike="noStrike">
                <a:solidFill>
                  <a:srgbClr val="000000"/>
                </a:solidFill>
                <a:latin typeface="Skia"/>
              </a:rPr>
              <a:t>Drosophila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Skia"/>
              </a:rPr>
              <a:t>Mus, C. elegans, Arabidopsis, Ozyra …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004840" y="208080"/>
            <a:ext cx="5132520" cy="644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16T20:17:24Z</dcterms:created>
  <dc:creator>Michael Ashburner</dc:creator>
  <dc:description/>
  <dc:language>en-US</dc:language>
  <cp:lastModifiedBy>Michael Ashburner</cp:lastModifiedBy>
  <dcterms:modified xsi:type="dcterms:W3CDTF">2006-03-03T17:58:30Z</dcterms:modified>
  <cp:revision>6</cp:revision>
  <dc:subject/>
  <dc:title>PowerPoint Presentation</dc:title>
</cp:coreProperties>
</file>